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103-8D16-4384-BCAC-B12D9B63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9E7-ED87-4D9D-BB3C-7A2BC7E6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D8A-3676-4FCC-A0B7-1BDDD8C6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E3D-657B-4F42-9D2B-18D7AB91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7809-DC2C-4EAC-928A-EF16E0C0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30E6-0D86-482F-8F8E-BCB406A3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9CC0-81CB-47ED-92A6-D86067F8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D512-87CC-438C-A7C9-5781E0E4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1DEA-FC7E-4FD8-8B18-26BA4BA2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25D5-544C-4E75-B83E-8EA145C9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EC3A-41E0-4150-908A-03D8932D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DDF-F5F8-44F6-9B10-23330AC9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DCE7-1D0A-42C1-B63D-C070635F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1E42-3631-47C7-B832-613549DF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17A2-6EAE-48C2-A894-CB2F3672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D854-C97B-404C-9B59-CAE404E8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721B-3AC8-4523-86DC-0F5FD6A5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249-8C46-4750-A0F0-3E970425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37D-AA9A-43AE-88ED-A71D7AD8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F9F-902C-4779-91A2-9DF2A273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314-4330-4A63-9692-43A9814E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A89-923D-4C57-BD6E-8AA846BC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18F-4CAC-492D-B503-4AD4BFD5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69E-2580-4479-B9CD-80797881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BFF7-7CBD-48B5-834E-F9539C7C3BB3}" type="slidenum">
              <a:rPr b="0" lang="en-US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0E56-232D-4F61-90A0-F462338F8533}" type="slidenum"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 Black"/>
              </a:rPr>
              <a:t>Inquiry Basics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Part Two: How to ‘do’ it….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Essential Questions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9900"/>
                </a:solidFill>
                <a:latin typeface="Arial"/>
              </a:rPr>
              <a:t>These are the most difficult part of the pre-planning process and involve a lot of discussion when your whole-school planning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9900"/>
                </a:solidFill>
                <a:latin typeface="Arial"/>
              </a:rPr>
              <a:t>They need to be: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cc9900"/>
                </a:solidFill>
                <a:latin typeface="Arial"/>
              </a:rPr>
              <a:t>Broad enough for all students to gain an understanding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cc9900"/>
                </a:solidFill>
                <a:latin typeface="Arial"/>
              </a:rPr>
              <a:t>Open ended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cc9900"/>
                </a:solidFill>
                <a:latin typeface="Arial"/>
              </a:rPr>
              <a:t>Encourage students to think deeply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9cf"/>
                </a:solidFill>
                <a:latin typeface="Arial"/>
              </a:rPr>
              <a:t>Discuss with a partner what your essential question or questions might be…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Planning Begins….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Using this information, you now need to go to the documents to help you plan for each curriculum area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Then select an Inquiry planning format and integrate your sessions on this so that you know how they all fit together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Be prepared to ask other teachers on your staff when you are unsure – they will always have ideas to help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I am happy to work with you on this when I am working in your schools, just let your Principal know if you want to work on this further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Evaluation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9900"/>
                </a:solidFill>
                <a:uFillTx/>
                <a:latin typeface="Arial"/>
              </a:rPr>
              <a:t>Do you know the following: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Why Inquiry is so important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teps in the Inquiry Proces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How to pre-plan for an Inquiry unit 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How context, knowledge, skills, strategies, key competencies and values ‘fits’ into Inquirie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How to start planning for an Inquiry unit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From last session….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omic Sans MS"/>
              </a:rPr>
              <a:t>Work with your colleagues to discuss and decide to try or change one thing within your next Inquiry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omic Sans MS"/>
              </a:rPr>
              <a:t>Feed back again in a fortnight about what you are going to try or change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omic Sans MS"/>
              </a:rPr>
              <a:t>Keep a record of the changes e.g. photos, blog, diary etc (put it on our wikispace for everyone to learn from)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Discuss what you will try or change…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Inquiry Choice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cc9900"/>
                </a:solidFill>
                <a:uFillTx/>
                <a:latin typeface="Comic Sans MS"/>
              </a:rPr>
              <a:t>Things to consider: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wide enough to explore significant understanding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does it provide first hand, direct experience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relevance to student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is the inquiry choice valuable in the world beyond schoo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engaging and interesting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linked to overall school plan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can provide a depth of understanding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can be adequately resourced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allow for critical reflection and action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is it inclusive of al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suitably challenging for student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can it be dealt with effectively in the timeframe given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have we got the expertise (or can we get it)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Pre - Planning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This should include the following: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Context – what you are focusing on.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Big Understandings/Ideas – core knowledge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Strategies and skills – that you’ll focus on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Key Competencie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Values and attitude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Essential question or question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Choice of Inquiries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The decisions on inquiry choice should be shared between the students, staff and parents (surveyed in November as part of the school self review process is a great way to find out interests and perceived needs)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           </a:t>
            </a:r>
            <a:r>
              <a:rPr b="1" lang="en-NZ" sz="2000" spc="-1" strike="noStrike">
                <a:solidFill>
                  <a:srgbClr val="cc9900"/>
                </a:solidFill>
                <a:latin typeface="Comic Sans MS"/>
              </a:rPr>
              <a:t>Always covers a mix of the following within each year: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    </a:t>
            </a:r>
            <a:r>
              <a:rPr b="1" lang="en-NZ" sz="2000" spc="-1" strike="noStrike">
                <a:solidFill>
                  <a:srgbClr val="cc9900"/>
                </a:solidFill>
                <a:latin typeface="Comic Sans MS"/>
              </a:rPr>
              <a:t>- </a:t>
            </a:r>
            <a:r>
              <a:rPr b="1" lang="en-NZ" sz="2000" spc="-1" strike="noStrike">
                <a:solidFill>
                  <a:srgbClr val="996600"/>
                </a:solidFill>
                <a:latin typeface="Comic Sans MS"/>
              </a:rPr>
              <a:t>Topics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– Content based, knowledge driven </a:t>
            </a:r>
            <a:r>
              <a:rPr b="0" i="1" lang="en-NZ" sz="2000" spc="-1" strike="noStrike">
                <a:solidFill>
                  <a:srgbClr val="cc9900"/>
                </a:solidFill>
                <a:latin typeface="Comic Sans MS"/>
              </a:rPr>
              <a:t>e.g. Medieval Times, Frogs, Vehicles etc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     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- </a:t>
            </a:r>
            <a:r>
              <a:rPr b="1" lang="en-NZ" sz="2000" spc="-1" strike="noStrike">
                <a:solidFill>
                  <a:srgbClr val="996600"/>
                </a:solidFill>
                <a:latin typeface="Comic Sans MS"/>
              </a:rPr>
              <a:t>Concept</a:t>
            </a:r>
            <a:r>
              <a:rPr b="1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– more abstract, multi-displinary</a:t>
            </a:r>
            <a:r>
              <a:rPr b="0" i="1" lang="en-NZ" sz="2000" spc="-1" strike="noStrike">
                <a:solidFill>
                  <a:srgbClr val="cc9900"/>
                </a:solidFill>
                <a:latin typeface="Comic Sans MS"/>
              </a:rPr>
              <a:t> e.g. structures, conflict, cycles, change, system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cc9900"/>
                </a:solidFill>
                <a:latin typeface="Comic Sans MS"/>
              </a:rPr>
              <a:t>       </a:t>
            </a:r>
            <a:r>
              <a:rPr b="0" i="1" lang="en-NZ" sz="2000" spc="-1" strike="noStrike">
                <a:solidFill>
                  <a:srgbClr val="cc9900"/>
                </a:solidFill>
                <a:latin typeface="Comic Sans MS"/>
              </a:rPr>
              <a:t>- </a:t>
            </a:r>
            <a:r>
              <a:rPr b="1" lang="en-NZ" sz="2000" spc="-1" strike="noStrike">
                <a:solidFill>
                  <a:srgbClr val="996600"/>
                </a:solidFill>
                <a:latin typeface="Comic Sans MS"/>
              </a:rPr>
              <a:t>Problem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– more topical, real issues </a:t>
            </a:r>
            <a:r>
              <a:rPr b="0" i="1" lang="en-NZ" sz="2000" spc="-1" strike="noStrike">
                <a:solidFill>
                  <a:srgbClr val="cc9900"/>
                </a:solidFill>
                <a:latin typeface="Comic Sans MS"/>
              </a:rPr>
              <a:t>e.g. pollution in our stream, gangs – why people need to belong, rubbish – what to do with it?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6600"/>
                </a:solidFill>
                <a:latin typeface="Comic Sans MS"/>
              </a:rPr>
              <a:t>Learning to Learn</a:t>
            </a:r>
            <a:r>
              <a:rPr b="1" lang="en-NZ" sz="2000" spc="-1" strike="noStrike">
                <a:solidFill>
                  <a:srgbClr val="cc9900"/>
                </a:solidFill>
                <a:latin typeface="Comic Sans MS"/>
              </a:rPr>
              <a:t> Unit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– always the first four to six weeks of each year.   Odd Year – Personal, Even Year - Team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Forming Understandings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590200" y="2140200"/>
            <a:ext cx="3810240" cy="4025880"/>
            <a:chOff x="2590200" y="2140200"/>
            <a:chExt cx="3810240" cy="4025880"/>
          </a:xfrm>
        </p:grpSpPr>
        <p:sp>
          <p:nvSpPr>
            <p:cNvPr id="94" name="_s11270"/>
            <p:cNvSpPr/>
            <p:nvPr/>
          </p:nvSpPr>
          <p:spPr>
            <a:xfrm flipV="1">
              <a:off x="4019760" y="2139840"/>
              <a:ext cx="951840" cy="1005480"/>
            </a:xfrm>
            <a:custGeom>
              <a:avLst/>
              <a:gdLst>
                <a:gd name="textAreaLeft" fmla="*/ 341640 w 951840"/>
                <a:gd name="textAreaRight" fmla="*/ 610200 w 951840"/>
                <a:gd name="textAreaTop" fmla="*/ 360720 h 1005480"/>
                <a:gd name="textAreaBottom" fmla="*/ 644760 h 100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9e3b7"/>
            </a:solidFill>
            <a:ln w="46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500" spc="-1" strike="noStrike">
                  <a:solidFill>
                    <a:srgbClr val="cc9900"/>
                  </a:solidFill>
                  <a:latin typeface="Arial"/>
                </a:rPr>
                <a:t>Theory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500" spc="-1" strike="noStrike">
                  <a:solidFill>
                    <a:srgbClr val="cc9900"/>
                  </a:solidFill>
                  <a:latin typeface="Arial"/>
                </a:rPr>
                <a:t>Building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95" name="_s11271"/>
            <p:cNvSpPr/>
            <p:nvPr/>
          </p:nvSpPr>
          <p:spPr>
            <a:xfrm flipV="1">
              <a:off x="3542400" y="3145320"/>
              <a:ext cx="1906200" cy="1007640"/>
            </a:xfrm>
            <a:custGeom>
              <a:avLst/>
              <a:gdLst>
                <a:gd name="textAreaLeft" fmla="*/ 419040 w 1906200"/>
                <a:gd name="textAreaRight" fmla="*/ 1487160 w 1906200"/>
                <a:gd name="textAreaTop" fmla="*/ 221400 h 1007640"/>
                <a:gd name="textAreaBottom" fmla="*/ 78624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9e3b7"/>
            </a:solidFill>
            <a:ln w="46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500" spc="-1" strike="noStrike">
                  <a:solidFill>
                    <a:srgbClr val="cc9900"/>
                  </a:solidFill>
                  <a:latin typeface="Arial"/>
                </a:rPr>
                <a:t>Generalisations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500" spc="-1" strike="noStrike">
                  <a:solidFill>
                    <a:srgbClr val="cc9900"/>
                  </a:solidFill>
                  <a:latin typeface="Arial"/>
                </a:rPr>
                <a:t>-expressions of the relationship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500" spc="-1" strike="noStrike">
                  <a:solidFill>
                    <a:srgbClr val="cc9900"/>
                  </a:solidFill>
                  <a:latin typeface="Arial"/>
                </a:rPr>
                <a:t>Between two or more concepts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96" name="_s11272"/>
            <p:cNvSpPr/>
            <p:nvPr/>
          </p:nvSpPr>
          <p:spPr>
            <a:xfrm flipV="1">
              <a:off x="3067560" y="4152960"/>
              <a:ext cx="2856240" cy="1004760"/>
            </a:xfrm>
            <a:custGeom>
              <a:avLst/>
              <a:gdLst>
                <a:gd name="textAreaLeft" fmla="*/ 495720 w 2856240"/>
                <a:gd name="textAreaRight" fmla="*/ 2360520 w 2856240"/>
                <a:gd name="textAreaTop" fmla="*/ 174240 h 1004760"/>
                <a:gd name="textAreaBottom" fmla="*/ 830520 h 10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9e3b7"/>
            </a:solidFill>
            <a:ln w="46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500" spc="-1" strike="noStrike">
                  <a:solidFill>
                    <a:srgbClr val="cc9900"/>
                  </a:solidFill>
                  <a:latin typeface="Arial"/>
                </a:rPr>
                <a:t>Concepts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500" spc="-1" strike="noStrike">
                  <a:solidFill>
                    <a:srgbClr val="cc9900"/>
                  </a:solidFill>
                  <a:latin typeface="Arial"/>
                </a:rPr>
                <a:t>-classified/categorised groups of related facts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97" name="_s11273"/>
            <p:cNvSpPr/>
            <p:nvPr/>
          </p:nvSpPr>
          <p:spPr>
            <a:xfrm flipV="1">
              <a:off x="2590200" y="5158080"/>
              <a:ext cx="3810240" cy="1007640"/>
            </a:xfrm>
            <a:custGeom>
              <a:avLst/>
              <a:gdLst>
                <a:gd name="textAreaLeft" fmla="*/ 573120 w 3810240"/>
                <a:gd name="textAreaRight" fmla="*/ 3237120 w 3810240"/>
                <a:gd name="textAreaTop" fmla="*/ 151560 h 1007640"/>
                <a:gd name="textAreaBottom" fmla="*/ 85608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e9e3b7"/>
            </a:solidFill>
            <a:ln w="46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500" spc="-1" strike="noStrike">
                  <a:solidFill>
                    <a:srgbClr val="cc9900"/>
                  </a:solidFill>
                  <a:latin typeface="Arial"/>
                </a:rPr>
                <a:t>Facts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500" spc="-1" strike="noStrike">
                  <a:solidFill>
                    <a:srgbClr val="cc9900"/>
                  </a:solidFill>
                  <a:latin typeface="Arial"/>
                </a:rPr>
                <a:t>-truths about specific events, objects, people, 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500" spc="-1" strike="noStrike">
                  <a:solidFill>
                    <a:srgbClr val="cc9900"/>
                  </a:solidFill>
                  <a:latin typeface="Arial"/>
                </a:rPr>
                <a:t>(these are easily investigated)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791320" y="1828800"/>
            <a:ext cx="1008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0" spc="-1" strike="noStrike">
                <a:solidFill>
                  <a:srgbClr val="cc9900"/>
                </a:solidFill>
                <a:latin typeface="Arial"/>
              </a:rPr>
              <a:t>}</a:t>
            </a:r>
            <a:r>
              <a:rPr b="0" lang="en-NZ" sz="40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971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cc9900"/>
                </a:solidFill>
                <a:latin typeface="Arial"/>
              </a:rPr>
              <a:t>Big Idea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Strategies and Skills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Comic Sans MS"/>
              </a:rPr>
              <a:t>Strategie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omic Sans MS"/>
              </a:rPr>
              <a:t>Ways of introducing or organizing a set of skills e.g. six hats, Multiple intelligences, Bloom’s etc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Comic Sans MS"/>
              </a:rPr>
              <a:t>Skill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omic Sans MS"/>
              </a:rPr>
              <a:t>Are what we want the children to be able to do e.g. thinking, questioning, researching etc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f"/>
                </a:solidFill>
                <a:latin typeface="Comic Sans MS"/>
              </a:rPr>
              <a:t>Focus on introducing only one new set of skills or one strategy in each Inquiry so you can ensure it is embedded and understood fully!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Key Competencies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Comic Sans MS"/>
              </a:rPr>
              <a:t>Only develop these when you are ready!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Comic Sans MS"/>
              </a:rPr>
              <a:t>Pick one competency that ‘fits’ with your Inquiry and focus on how you could teach, observe and record your finding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Comic Sans MS"/>
              </a:rPr>
              <a:t>With a partner plan this on your Pre-Planning Sheets – for your inquiry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Values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4952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NZ Curriculum Values are: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Excellence      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Innovation, Inquiry and curiosity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Diversity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Equity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Community and participation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Ecological sustainability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Integrity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Respect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286000"/>
            <a:ext cx="2971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f"/>
                </a:solidFill>
                <a:latin typeface="Comic Sans MS"/>
              </a:rPr>
              <a:t>Consider: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9c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f"/>
                </a:solidFill>
                <a:latin typeface="Comic Sans MS"/>
              </a:rPr>
              <a:t>What values might we include?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9c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f"/>
                </a:solidFill>
                <a:latin typeface="Comic Sans MS"/>
              </a:rPr>
              <a:t>What values might be challenged during this inquiry?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9c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9cf"/>
                </a:solidFill>
                <a:latin typeface="Comic Sans MS"/>
              </a:rPr>
              <a:t>What value will we focus on?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2:30:23Z</dcterms:created>
  <dc:creator>Bronwyn Fennessy</dc:creator>
  <dc:description/>
  <dc:language>en-US</dc:language>
  <cp:lastModifiedBy>Bronwyn Fennessy</cp:lastModifiedBy>
  <dcterms:modified xsi:type="dcterms:W3CDTF">2008-04-03T22:48:47Z</dcterms:modified>
  <cp:revision>2</cp:revision>
  <dc:subject/>
  <dc:title>Inquiry Basics</dc:title>
</cp:coreProperties>
</file>